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1C76-5816-40C5-AF61-395032A56B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ids produce thousands of seeds which are so s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ipe capsule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mpatie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xplodes when touched, scatt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mall seeds away from the pl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pi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tom picture   The remains of an exploded frui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2C5-62BC-47FF-8D75-F01AF50D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CBC-1837-493E-A71A-37FBA88A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116-470D-45E5-BF33-8A495741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120-2FCC-4010-A0B9-56974E79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697-BAE0-4706-9D22-8BD89C4F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505-D479-4D40-91D6-73126727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AA3-D041-491F-BA42-89F08297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F36-2B4B-4A73-B62B-AEFCACB0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077-FFFD-4A3C-A47D-AF4D66BA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967-4F88-4AD8-B439-656A613D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633-8676-4F45-92EE-2876EFE8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6E5-10F0-4176-8675-80430948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EA26-73D5-4F0B-92BD-78922C9A8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upload.wikimedia.org/wikipedia/commons/a/ac/Photos-photos_1088103921_Floating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upload.wikimedia.org/wikipedia/commons/3/3b/Barbed_seed_in_fur_2159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ow plants shed their seeds so they do not have to compete with their off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71640" y="2276640"/>
            <a:ext cx="33861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EED DISPERSAL</a:t>
            </a:r>
            <a:endParaRPr b="1" i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016000" cy="273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00000" y="5373720"/>
            <a:ext cx="17607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866160"/>
            <a:ext cx="85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of the important functions of seeds and fruits is dispers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mechanism to establish the seeds in a suitable place away from their parental pla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4941720"/>
            <a:ext cx="1195560" cy="149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300720" y="43657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4 main mechanisms for seed and fruit dispers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tchhiking on animals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ifting in ocean or fresh water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ating in the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951200" cy="1300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1901880" cy="2179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435640" y="2492280"/>
            <a:ext cx="2244600" cy="149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724360" y="5013360"/>
            <a:ext cx="2132280" cy="145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67280" y="45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WI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lants use wind to help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eeds are so small that they carried easily by air cur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thers produce fruits with special adaptations for flight to carry their seeds f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4005360"/>
            <a:ext cx="3745080" cy="2131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300640" y="1600200"/>
            <a:ext cx="2732040" cy="218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74072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Orch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ruits that are sticky or covered with h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icy berries or fruits tempt animals to eat them. The tough seed travels right through the animals gut and is deposited with its own pile of fertili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1486080"/>
            <a:ext cx="3816360" cy="227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761080" y="4314960"/>
            <a:ext cx="18111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Coconuts can float for months on ocean currents which can carry them for hundreds of miles from their parents -and other cocon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093080" y="3938760"/>
            <a:ext cx="159372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Coconut fruit"/>
          <p:cNvPicPr/>
          <p:nvPr/>
        </p:nvPicPr>
        <p:blipFill>
          <a:blip r:embed="rId3"/>
          <a:stretch/>
        </p:blipFill>
        <p:spPr>
          <a:xfrm>
            <a:off x="4788000" y="1700280"/>
            <a:ext cx="38098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Explos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ome plants use mini explosions to spread their seeds. The pods dry out and pop, flinging the seeds out and away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033720" cy="2022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024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1:15:50Z</dcterms:created>
  <dc:creator>John</dc:creator>
  <dc:description/>
  <dc:language>en-US</dc:language>
  <cp:lastModifiedBy>John</cp:lastModifiedBy>
  <dcterms:modified xsi:type="dcterms:W3CDTF">2006-12-02T12:52:12Z</dcterms:modified>
  <cp:revision>4</cp:revision>
  <dc:subject/>
  <dc:title>Slide 1</dc:title>
</cp:coreProperties>
</file>